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7.gif" ContentType="image/gi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5.gif" ContentType="image/gif"/>
  <Override PartName="/ppt/media/image11.jpeg" ContentType="image/jpeg"/>
  <Override PartName="/ppt/media/image6.jpeg" ContentType="image/jpeg"/>
  <Override PartName="/ppt/media/image30.png" ContentType="image/png"/>
  <Override PartName="/ppt/media/image28.wmf" ContentType="image/x-wmf"/>
  <Override PartName="/ppt/media/image12.wmf" ContentType="image/x-wmf"/>
  <Override PartName="/ppt/media/image36.wmf" ContentType="image/x-wmf"/>
  <Override PartName="/ppt/media/image16.jpeg" ContentType="image/jpeg"/>
  <Override PartName="/ppt/media/image19.wmf" ContentType="image/x-wmf"/>
  <Override PartName="/ppt/media/image33.gif" ContentType="image/gif"/>
  <Override PartName="/ppt/media/image3.gif" ContentType="image/gif"/>
  <Override PartName="/ppt/media/image18.wmf" ContentType="image/x-wmf"/>
  <Override PartName="/ppt/media/image2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53DF-C8A8-47A5-8221-BBD7ABE35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ccent"/>
              </a:rPr>
              <a:t>In one cup of peas you can pick up 35% of your daily fiber and 6.4 grams of protein - that is more protein than 2 tbsp of peanut butte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1316-7D79-40CE-B0F9-066975F4C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ccent"/>
              </a:rPr>
              <a:t>Serotonin, a chemical produced by the body that helps you relax, can be increased by a complex carbohydrate (ex- pasta) mea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6D7C-CFF5-4AAC-8733-CFC1945FA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that retain their calcium content are part of this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cream, and cream cheese have little to no calc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1528-1261-4322-8913-C72C25E19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an you n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E561-327C-4484-97CC-72E67E924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mericans consume enough fats/oils in the foods they eat, such as nuts, fish, cooking oil, salad dressings, butter, etc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back on foods containing saturated fat, trans fat, and cholest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353-4389-4395-AB04-17C554E19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male total daily calorie needs– 2200 cal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female total daily calorie needs– 1800 cal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70A7-DE1A-4B1A-8CCA-5D34FCE29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w them how much a lb. of butter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AA7-077C-45F8-B3FD-D3F4F7904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DFF-1DE0-44E9-AF0C-8E7286F1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CF1-75EC-4C64-A214-1828021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C14-9640-4C57-A6B0-9BFC15A7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5A1-DA88-4B42-B733-832519F7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A24-E3BA-4937-BA48-DB768B3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91B-0502-4D78-8958-F83ECE8E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069-88A5-44D6-B30D-E7EDF15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E4D-03D8-4457-847B-AA0D8E1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15F-6AFB-4BC7-8CDD-5D23EF2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69B-0D2C-4309-86B7-A13F5BD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B5D-C01E-4C6E-BE89-6C3B27E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968-BC36-4720-8A0C-6731E4B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A4D-E544-4D35-A6A5-4AB4CFDE2FE0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Georgia"/>
            </a:endParaRPr>
          </a:p>
        </p:txBody>
      </p:sp>
      <p:pic>
        <p:nvPicPr>
          <p:cNvPr id="50" name="Picture 3" descr="myplate_white.jpg"/>
          <p:cNvPicPr/>
          <p:nvPr/>
        </p:nvPicPr>
        <p:blipFill>
          <a:blip r:embed="rId1"/>
          <a:stretch/>
        </p:blipFill>
        <p:spPr>
          <a:xfrm>
            <a:off x="1600200" y="838080"/>
            <a:ext cx="5867280" cy="533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GO LEAN WITH PROTEI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t, poultry, seafood, beans and peas, eggs, processed soy products, nuts &amp; see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in protein, B vitamins, iron, zinc, magnesiu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males – 6 ½ ounc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females – 5 ounc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:  Trim fat off meat.  Choose “lean” cooking methods—grilling, baking, broil, roast, poa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" name="Picture 2" descr="C:\Users\Christina\AppData\Local\Microsoft\Windows\Temporary Internet Files\Content.IE5\KU3289LQ\MC900232817[1].wmf"/>
          <p:cNvPicPr/>
          <p:nvPr/>
        </p:nvPicPr>
        <p:blipFill>
          <a:blip r:embed="rId1"/>
          <a:stretch/>
        </p:blipFill>
        <p:spPr>
          <a:xfrm>
            <a:off x="1752480" y="1066680"/>
            <a:ext cx="1770120" cy="106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Christina\AppData\Local\Microsoft\Windows\Temporary Internet Files\Content.IE5\VBE92JXA\MC900232570[1].wmf"/>
          <p:cNvPicPr/>
          <p:nvPr/>
        </p:nvPicPr>
        <p:blipFill>
          <a:blip r:embed="rId2"/>
          <a:stretch/>
        </p:blipFill>
        <p:spPr>
          <a:xfrm>
            <a:off x="6324480" y="1066680"/>
            <a:ext cx="155412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Christina\AppData\Local\Microsoft\Windows\Temporary Internet Files\Content.IE5\VBE92JXA\MP910221056[1].jpg"/>
          <p:cNvPicPr/>
          <p:nvPr/>
        </p:nvPicPr>
        <p:blipFill>
          <a:blip r:embed="rId3"/>
          <a:stretch/>
        </p:blipFill>
        <p:spPr>
          <a:xfrm>
            <a:off x="4267080" y="1066680"/>
            <a:ext cx="968400" cy="10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600200" y="289548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Which has more fiber &amp;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1 cup of p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2 tbsp of peanut bu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Christina\AppData\Local\Microsoft\Windows\Temporary Internet Files\Content.IE5\NXC5URW6\MC900384342[1].wmf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153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38b03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362320" y="57913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ent"/>
              </a:rPr>
              <a:t>PEA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ff6600"/>
                </a:solidFill>
                <a:latin typeface="Georgia"/>
              </a:rPr>
              <a:t>Grai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Content Placeholder 3" descr="myplate_white_grains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MAKE HALF YOUR GRAINS WHOL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eat, rice, oats, cornmeal, barle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x-Bread, pasta, oatmeal, cereal, tortilla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igh in dietary fiber, B vitamins, iron, magnesiu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 – 8 ounce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 – 6 ounce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Wheat bread over white bread.  Brown rice over white ri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" name="Picture 2" descr="C:\Users\Christina\AppData\Local\Microsoft\Windows\Temporary Internet Files\Content.IE5\KU3289LQ\MC900410455[1].wmf"/>
          <p:cNvPicPr/>
          <p:nvPr/>
        </p:nvPicPr>
        <p:blipFill>
          <a:blip r:embed="rId1"/>
          <a:stretch/>
        </p:blipFill>
        <p:spPr>
          <a:xfrm>
            <a:off x="7391520" y="3352680"/>
            <a:ext cx="1371600" cy="157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Christina\AppData\Local\Microsoft\Windows\Temporary Internet Files\Content.IE5\NXC5URW6\MC900199252[1].wmf"/>
          <p:cNvPicPr/>
          <p:nvPr/>
        </p:nvPicPr>
        <p:blipFill>
          <a:blip r:embed="rId2"/>
          <a:stretch/>
        </p:blipFill>
        <p:spPr>
          <a:xfrm>
            <a:off x="304920" y="228600"/>
            <a:ext cx="915840" cy="1528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28800" y="31240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Feeling St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Eat more complex carbohydrates such as whole-wheat pas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Christina\AppData\Local\Microsoft\Windows\Temporary Internet Files\Content.IE5\ZKMH337T\MC900048792[1].wmf"/>
          <p:cNvPicPr/>
          <p:nvPr/>
        </p:nvPicPr>
        <p:blipFill>
          <a:blip r:embed="rId1"/>
          <a:stretch/>
        </p:blipFill>
        <p:spPr>
          <a:xfrm>
            <a:off x="2057400" y="1828800"/>
            <a:ext cx="1795320" cy="709560"/>
          </a:xfrm>
          <a:prstGeom prst="rect">
            <a:avLst/>
          </a:prstGeom>
          <a:ln w="0">
            <a:noFill/>
          </a:ln>
        </p:spPr>
      </p:pic>
      <p:sp>
        <p:nvSpPr>
          <p:cNvPr id="92" name="Equal 5"/>
          <p:cNvSpPr/>
          <p:nvPr/>
        </p:nvSpPr>
        <p:spPr>
          <a:xfrm>
            <a:off x="4419720" y="17524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Christina\AppData\Local\Microsoft\Windows\Temporary Internet Files\Content.IE5\VBE92JXA\MC900361028[2].wmf"/>
          <p:cNvPicPr/>
          <p:nvPr/>
        </p:nvPicPr>
        <p:blipFill>
          <a:blip r:embed="rId2"/>
          <a:stretch/>
        </p:blipFill>
        <p:spPr>
          <a:xfrm>
            <a:off x="5943600" y="1371600"/>
            <a:ext cx="1657440" cy="152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0070c0"/>
                </a:solidFill>
                <a:latin typeface="Georgia"/>
              </a:rPr>
              <a:t>Dairy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" name="Content Placeholder 4" descr="myplate_white_dairy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Georgia"/>
              </a:rPr>
              <a:t>GET YOUR CALCIUM-RICH FOOD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lk, foods made with milk (yogurt, cheese, pudding, ice cream, calcium-fortified soy mil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 part of the group – butter, cream cheese, cr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in calcium, potassium, Vitamin 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males – 3 cup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females – 3 cup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:  Fat-free or low-fat milk, yogurt, and chee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" name="Picture 2" descr="C:\Users\Christina\AppData\Local\Microsoft\Windows\Temporary Internet Files\Content.IE5\VBE92JXA\MC900441751[1].png"/>
          <p:cNvPicPr/>
          <p:nvPr/>
        </p:nvPicPr>
        <p:blipFill>
          <a:blip r:embed="rId1"/>
          <a:stretch/>
        </p:blipFill>
        <p:spPr>
          <a:xfrm>
            <a:off x="-152280" y="380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Christina\AppData\Local\Microsoft\Windows\Temporary Internet Files\Content.IE5\ZKMH337T\MC900441776[1].png"/>
          <p:cNvPicPr/>
          <p:nvPr/>
        </p:nvPicPr>
        <p:blipFill>
          <a:blip r:embed="rId2"/>
          <a:stretch/>
        </p:blipFill>
        <p:spPr>
          <a:xfrm>
            <a:off x="7010280" y="609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Christina\AppData\Local\Microsoft\Windows\Temporary Internet Files\Content.IE5\KU3289LQ\MC900411900[1].wmf"/>
          <p:cNvPicPr/>
          <p:nvPr/>
        </p:nvPicPr>
        <p:blipFill>
          <a:blip r:embed="rId3"/>
          <a:stretch/>
        </p:blipFill>
        <p:spPr>
          <a:xfrm>
            <a:off x="6477120" y="3352680"/>
            <a:ext cx="184284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676520" y="13716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cent"/>
              </a:rPr>
              <a:t>How Many Varieties of Cheese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997000" y="4952880"/>
            <a:ext cx="33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ent"/>
              </a:rPr>
              <a:t>Over 2,000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Users\Christina\AppData\Local\Microsoft\Windows\Temporary Internet Files\Content.IE5\ZKMH337T\MC900264264[1].wmf"/>
          <p:cNvPicPr/>
          <p:nvPr/>
        </p:nvPicPr>
        <p:blipFill>
          <a:blip r:embed="rId1"/>
          <a:stretch/>
        </p:blipFill>
        <p:spPr>
          <a:xfrm>
            <a:off x="2438280" y="2971800"/>
            <a:ext cx="1905120" cy="128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Users\Christina\AppData\Local\Microsoft\Windows\Temporary Internet Files\Content.IE5\VBE92JXA\MC900444735[1].jpg"/>
          <p:cNvPicPr/>
          <p:nvPr/>
        </p:nvPicPr>
        <p:blipFill>
          <a:blip r:embed="rId2"/>
          <a:stretch/>
        </p:blipFill>
        <p:spPr>
          <a:xfrm>
            <a:off x="5257800" y="2514600"/>
            <a:ext cx="176544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What About Oils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OT a food group, but provide essential nutrie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Oil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- fats that are liquid at room temperatu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anola oil, Olive oil, Corn oil, Sunflower oil, Safflower oi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ily Allowance depends on age, gender, and physical activit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 – 6 tsp.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 – 5 tsp.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Limit your oil intak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8" name="Picture 2" descr="C:\Users\Christina\AppData\Local\Microsoft\Windows\Temporary Internet Files\Content.IE5\VBE92JXA\MC900234203[1].wmf"/>
          <p:cNvPicPr/>
          <p:nvPr/>
        </p:nvPicPr>
        <p:blipFill>
          <a:blip r:embed="rId1"/>
          <a:stretch/>
        </p:blipFill>
        <p:spPr>
          <a:xfrm>
            <a:off x="6019920" y="4586400"/>
            <a:ext cx="2016000" cy="168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0" name="Picture 2" descr="C:\Users\Christina\AppData\Local\Microsoft\Windows\Temporary Internet Files\Content.IE5\VBE92JXA\MC900296145[1].wmf"/>
          <p:cNvPicPr/>
          <p:nvPr/>
        </p:nvPicPr>
        <p:blipFill>
          <a:blip r:embed="rId1"/>
          <a:stretch/>
        </p:blipFill>
        <p:spPr>
          <a:xfrm>
            <a:off x="3962520" y="1752480"/>
            <a:ext cx="1465200" cy="1400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729440" y="3733920"/>
            <a:ext cx="619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ccent"/>
              </a:rPr>
              <a:t>The oldest olive tree w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ccent"/>
              </a:rPr>
              <a:t>2,000 years ol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What Is MyPlate?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Georgia"/>
              </a:rPr>
              <a:t>MyPlate --- shows us the 5 food groups using a familiar mealtime visual, 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Georgia"/>
              </a:rPr>
              <a:t>a place setting</a:t>
            </a:r>
            <a:r>
              <a:rPr b="0" lang="en-US" sz="3200" spc="-1" strike="noStrike">
                <a:solidFill>
                  <a:srgbClr val="1f497d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c3a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ad2"/>
                </a:solidFill>
                <a:latin typeface="Georgia"/>
              </a:rPr>
              <a:t>MyPlate --- is designed to help consumers make </a:t>
            </a:r>
            <a:r>
              <a:rPr b="0" lang="en-US" sz="3200" spc="-1" strike="noStrike" u="sng">
                <a:solidFill>
                  <a:srgbClr val="fc3ad2"/>
                </a:solidFill>
                <a:uFillTx/>
                <a:latin typeface="Georgia"/>
              </a:rPr>
              <a:t>better food choice</a:t>
            </a:r>
            <a:r>
              <a:rPr b="0" lang="en-US" sz="3200" spc="-1" strike="noStrike">
                <a:solidFill>
                  <a:srgbClr val="fc3ad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138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b03"/>
                </a:solidFill>
                <a:latin typeface="Georgia"/>
              </a:rPr>
              <a:t>MyPlate --- is designed to remind Americans to </a:t>
            </a:r>
            <a:r>
              <a:rPr b="0" lang="en-US" sz="3200" spc="-1" strike="noStrike" u="sng">
                <a:solidFill>
                  <a:srgbClr val="138b03"/>
                </a:solidFill>
                <a:uFillTx/>
                <a:latin typeface="Georgia"/>
              </a:rPr>
              <a:t>eat more healthfully</a:t>
            </a:r>
            <a:r>
              <a:rPr b="0" lang="en-US" sz="3200" spc="-1" strike="noStrike">
                <a:solidFill>
                  <a:srgbClr val="138b03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3ad2"/>
                </a:solidFill>
                <a:latin typeface="Georgia"/>
              </a:rPr>
              <a:t>What About </a:t>
            </a:r>
            <a:br>
              <a:rPr sz="4000"/>
            </a:br>
            <a:r>
              <a:rPr b="0" lang="en-US" sz="4000" spc="-1" strike="noStrike">
                <a:solidFill>
                  <a:srgbClr val="fc3ad2"/>
                </a:solidFill>
                <a:latin typeface="Georgia"/>
              </a:rPr>
              <a:t>Empty Calorie Foods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Empty Calorie Food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foods with little to no nutritional val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 - Solid fats, Adde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olid fa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solid at room temperat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utter, margarine, shortening, la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dded Sugar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sugars or syrups that are added to a food or beverage when processed or prepar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da, cake, cookies, donu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males – 265 “empty” calori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en females – 160 “empty” calories per 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: Limit empty calorie foo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" name="Picture 2" descr="C:\Users\Christina\AppData\Local\Microsoft\Windows\Temporary Internet Files\Content.IE5\ZKMH337T\MC900232689[1].wmf"/>
          <p:cNvPicPr/>
          <p:nvPr/>
        </p:nvPicPr>
        <p:blipFill>
          <a:blip r:embed="rId1"/>
          <a:stretch/>
        </p:blipFill>
        <p:spPr>
          <a:xfrm>
            <a:off x="6400800" y="1905120"/>
            <a:ext cx="2509920" cy="153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Christina\AppData\Local\Microsoft\Windows\Temporary Internet Files\Content.IE5\4QRSUD3R\MC900436199[1].png"/>
          <p:cNvPicPr/>
          <p:nvPr/>
        </p:nvPicPr>
        <p:blipFill>
          <a:blip r:embed="rId2"/>
          <a:stretch/>
        </p:blipFill>
        <p:spPr>
          <a:xfrm>
            <a:off x="6858000" y="4572000"/>
            <a:ext cx="1828800" cy="1803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Christina\AppData\Local\Microsoft\Windows\Temporary Internet Files\Content.IE5\GZPX9VH9\MC900436291[1].png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3ad2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8" name="Picture 2" descr="C:\Users\Christina\AppData\Local\Microsoft\Windows\Temporary Internet Files\Content.IE5\KU3289LQ\MC900293562[1].wmf"/>
          <p:cNvPicPr/>
          <p:nvPr/>
        </p:nvPicPr>
        <p:blipFill>
          <a:blip r:embed="rId1"/>
          <a:stretch/>
        </p:blipFill>
        <p:spPr>
          <a:xfrm>
            <a:off x="3581280" y="1523880"/>
            <a:ext cx="1806840" cy="1327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1828800" y="3105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ccent"/>
              </a:rPr>
              <a:t>We consume more than 4 pounds of butter per person per year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Georgia"/>
              </a:rPr>
              <a:t>Do I Really Have To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Georgia"/>
              </a:rPr>
              <a:t>Exercise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hysical Activity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– movement of the body that uses ener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unning, walking, bicycling, aerobics, spor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duces long-term health benefi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hysical Activity + Good Nutrition = A Healthy YOU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s – at least 60 min.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S:  Choose an activity you enjo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2" name="Picture 2" descr="C:\Users\Christina\AppData\Local\Microsoft\Windows\Temporary Internet Files\Content.IE5\VBE92JXA\MM900303500[1].gif"/>
          <p:cNvPicPr/>
          <p:nvPr/>
        </p:nvPicPr>
        <p:blipFill>
          <a:blip r:embed="rId1"/>
          <a:stretch/>
        </p:blipFill>
        <p:spPr>
          <a:xfrm>
            <a:off x="609480" y="380880"/>
            <a:ext cx="1398600" cy="1067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Christina\AppData\Local\Microsoft\Windows\Temporary Internet Files\Content.IE5\KU3289LQ\MC900440536[1].wmf"/>
          <p:cNvPicPr/>
          <p:nvPr/>
        </p:nvPicPr>
        <p:blipFill>
          <a:blip r:embed="rId2"/>
          <a:stretch/>
        </p:blipFill>
        <p:spPr>
          <a:xfrm>
            <a:off x="7086600" y="4191120"/>
            <a:ext cx="151596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Christina\AppData\Local\Microsoft\Windows\Temporary Internet Files\Content.IE5\VBE92JXA\MM900303486[1].gif"/>
          <p:cNvPicPr/>
          <p:nvPr/>
        </p:nvPicPr>
        <p:blipFill>
          <a:blip r:embed="rId3"/>
          <a:stretch/>
        </p:blipFill>
        <p:spPr>
          <a:xfrm>
            <a:off x="6923160" y="304920"/>
            <a:ext cx="1501560" cy="1447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Georgia"/>
              </a:rPr>
              <a:t>TIPS For A Healthier YOU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joy your food, but eat les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void oversized por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deration is ke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rink water instead of sugary drink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at more fruits &amp; veggi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hoose lean protei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lect whole wheat over whit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pt for fat-free or low-fat dairy product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wer your fat, sugar, &amp; sodium intak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5" descr="C:\Users\Christina\AppData\Local\Microsoft\Windows\Temporary Internet Files\Content.IE5\GZPX9VH9\MC900423171[1].wmf"/>
          <p:cNvPicPr/>
          <p:nvPr/>
        </p:nvPicPr>
        <p:blipFill>
          <a:blip r:embed="rId1"/>
          <a:stretch/>
        </p:blipFill>
        <p:spPr>
          <a:xfrm>
            <a:off x="6553080" y="12193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Fruit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Content Placeholder 3" descr="myplate_white_fruits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FOCUS ON FRUI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½ of your plate fruits and veggies”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esh, canned, frozen, dri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0% fruit jui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w in fat, sodium, and calori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o cholester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- 2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- 1 ½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Try different kinds of fruit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" name="Picture 2" descr="C:\Users\Christina\AppData\Local\Microsoft\Windows\Temporary Internet Files\Content.IE5\ZKMH337T\MM900223774[1].gif"/>
          <p:cNvPicPr/>
          <p:nvPr/>
        </p:nvPicPr>
        <p:blipFill>
          <a:blip r:embed="rId1"/>
          <a:stretch/>
        </p:blipFill>
        <p:spPr>
          <a:xfrm>
            <a:off x="7238880" y="533520"/>
            <a:ext cx="1238400" cy="90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Christina\AppData\Local\Microsoft\Windows\Temporary Internet Files\Content.IE5\KU3289LQ\MC900232682[1].wmf"/>
          <p:cNvPicPr/>
          <p:nvPr/>
        </p:nvPicPr>
        <p:blipFill>
          <a:blip r:embed="rId2"/>
          <a:stretch/>
        </p:blipFill>
        <p:spPr>
          <a:xfrm>
            <a:off x="6781680" y="2362320"/>
            <a:ext cx="638280" cy="973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0" y="29671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cent"/>
              </a:rPr>
              <a:t>In the United States, more tomatoes are consumed than any other single fruit or vegetabl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Christina\AppData\Local\Microsoft\Windows\Temporary Internet Files\Content.IE5\ZKMH337T\MC900436907[1].png"/>
          <p:cNvPicPr/>
          <p:nvPr/>
        </p:nvPicPr>
        <p:blipFill>
          <a:blip r:embed="rId1"/>
          <a:stretch/>
        </p:blipFill>
        <p:spPr>
          <a:xfrm>
            <a:off x="3581280" y="1219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009900"/>
                </a:solidFill>
                <a:latin typeface="Georgia"/>
              </a:rPr>
              <a:t>Vegetable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" name="Content Placeholder 3" descr="myplate_white_vegetables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Georgia"/>
              </a:rPr>
              <a:t>VARY YOUR VEGGI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½ your plate fruits and veggies”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esh, canned, frozen, dri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0% vegetable jui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w in fat and calori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o cholester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rving size depends on age/gend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males – 3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en females – 2 ½ cups per da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P:  Choose veggies of different color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3" descr="C:\Users\Christina\AppData\Local\Microsoft\Windows\Temporary Internet Files\Content.IE5\NXC5URW6\MM900223773[1].gif"/>
          <p:cNvPicPr/>
          <p:nvPr/>
        </p:nvPicPr>
        <p:blipFill>
          <a:blip r:embed="rId1"/>
          <a:stretch/>
        </p:blipFill>
        <p:spPr>
          <a:xfrm>
            <a:off x="7467480" y="60948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Christina\AppData\Local\Microsoft\Windows\Temporary Internet Files\Content.IE5\ZKMH337T\MC900441852[1].wmf"/>
          <p:cNvPicPr/>
          <p:nvPr/>
        </p:nvPicPr>
        <p:blipFill>
          <a:blip r:embed="rId2"/>
          <a:stretch/>
        </p:blipFill>
        <p:spPr>
          <a:xfrm>
            <a:off x="6019920" y="2666880"/>
            <a:ext cx="1120680" cy="123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38b03"/>
                </a:solidFill>
                <a:latin typeface="Georgia"/>
              </a:rPr>
              <a:t>FUN FACT!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23880" y="2209680"/>
            <a:ext cx="6019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Green bell peppers have twice as much vitamin C as citrus fru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Red peppers have three times as mu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ccent"/>
              </a:rPr>
              <a:t>Hot peppers contain 357% more vitamin C than an o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Christina\AppData\Local\Microsoft\Windows\Temporary Internet Files\Content.IE5\VBE92JXA\MC900441782[1].png"/>
          <p:cNvPicPr/>
          <p:nvPr/>
        </p:nvPicPr>
        <p:blipFill>
          <a:blip r:embed="rId1"/>
          <a:stretch/>
        </p:blipFill>
        <p:spPr>
          <a:xfrm>
            <a:off x="2438280" y="1143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Christina\AppData\Local\Microsoft\Windows\Temporary Internet Files\Content.IE5\ZKMH337T\MC900441785[1].png"/>
          <p:cNvPicPr/>
          <p:nvPr/>
        </p:nvPicPr>
        <p:blipFill>
          <a:blip r:embed="rId2"/>
          <a:stretch/>
        </p:blipFill>
        <p:spPr>
          <a:xfrm>
            <a:off x="4724280" y="11430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Protei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Grou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" name="Content Placeholder 3" descr="myplate_white_protein.jpg"/>
          <p:cNvPicPr/>
          <p:nvPr/>
        </p:nvPicPr>
        <p:blipFill>
          <a:blip r:embed="rId1"/>
          <a:stretch/>
        </p:blipFill>
        <p:spPr>
          <a:xfrm>
            <a:off x="2082960" y="1600200"/>
            <a:ext cx="497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25:39Z</dcterms:created>
  <dc:creator>Christina</dc:creator>
  <dc:description/>
  <dc:language>en-US</dc:language>
  <cp:lastModifiedBy>Allen M. Brewer</cp:lastModifiedBy>
  <dcterms:modified xsi:type="dcterms:W3CDTF">2013-10-23T16:10:54Z</dcterms:modified>
  <cp:revision>20</cp:revision>
  <dc:subject/>
  <dc:title>Slide 1</dc:title>
</cp:coreProperties>
</file>